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462C-A8BA-4819-8A3E-A37C582CC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7A13-C0C6-4D44-B44D-E6F6AFB3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8FD4-F26E-489E-A7BA-E86CE80C8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8775-1904-4A74-84D8-A1B838675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EA059-2594-4C25-96B3-8BD00ECF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5B0E4-8762-4F7E-A782-14127BDA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D451C-F796-462E-9F12-373E3AAB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27E90-2C29-4D58-921C-921205E6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A27EE-0B04-4FC0-AE20-B4EE2779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3DED3-1055-4126-AD5D-9CC028E5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8AD03-90AE-40EA-A98E-C1B80A33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BC12-731B-4123-9282-B83A7B7A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89A03C-CEBE-4D6D-8875-5A2AC83D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8D788-82F9-4308-9308-2A723981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AEFF1-D4DD-44C3-BA0D-9CECED3C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A08FA-2E1E-4705-AA88-256116446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B6600-5868-4D4E-B590-C7C70B76B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F3DD-D1EF-426D-8695-3261B0AD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07AD-130A-41AC-A79E-1E9B836C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5766-E061-4D58-ACC2-35DBF71D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FADB-20FB-4E59-B7E8-9D82D853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A2A3-4D59-412B-AEF8-6732DCB9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16C0-7F06-4C7A-B0A1-6DDA7179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A49D-0918-453C-BE01-5ECB124A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DA40-873F-4CA2-8450-4A0410B4EE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7097-E9BD-48EB-994E-C7B33ADF12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раздник.</a:t>
            </a:r>
            <a:br>
              <a:rPr sz="44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Встречай с любовью птичьи . ста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Цел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привитие любви к родной природе, воспитание чувства сострадания к братьям нашим меньшим, возрождение народных традиц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09680" y="4419720"/>
            <a:ext cx="2895840" cy="1719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3733920"/>
            <a:ext cx="1494000" cy="2730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666880" y="2895480"/>
            <a:ext cx="2014560" cy="12747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6172200" y="3352680"/>
            <a:ext cx="2971800" cy="3164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Перелётные птицы.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ерелётные птицы прилетают на Роди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то подпевает перелётным птица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то прилетает к нам первым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494000" cy="27306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629400" y="3733920"/>
            <a:ext cx="1136520" cy="1911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Кукушка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гда весенний лес весн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оржественно встречае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лдунья серая в ле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ердно годы нам веща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Шумит листва. Лучится св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у-ку! А сколько в веке ле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 ну, кто первый даст ответ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3-18T23:08:4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